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642-EC6C-4912-A327-6EDF0A41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627D-3205-4B64-A459-74A9629A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BBA2-B09C-4861-BDB0-CCBE9C99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DEB-8917-4BCC-A903-C0B58AEC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C07-8AA9-48F2-8CEC-1BD7932B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09E1-D795-43F7-A6AE-AAD7CF42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F34-A5E6-478F-83AC-0FD0DA49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9672-B9F6-40E8-8F4D-AB653B3E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30F-FBCA-4A44-A268-FC320D09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633-BCB8-417F-8282-BCD1C317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6FD-E4C0-446B-BEF7-021EC346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781-265F-44C8-BF3C-5E5285EB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46A1-0FD7-4894-B2E1-6EC542E0F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lex 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http://t0.gstatic.com/images?q=tbn:ANd9GcScn945d993AW6aFhTw7nwehBwKkBlcIzemtt-92bGnyGf50OIh"/>
          <p:cNvPicPr/>
          <p:nvPr/>
        </p:nvPicPr>
        <p:blipFill>
          <a:blip r:embed="rId1"/>
          <a:stretch/>
        </p:blipFill>
        <p:spPr>
          <a:xfrm>
            <a:off x="685800" y="2112840"/>
            <a:ext cx="75438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itle 1"/>
          <p:cNvSpPr/>
          <p:nvPr/>
        </p:nvSpPr>
        <p:spPr>
          <a:xfrm>
            <a:off x="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y of wisdom and the right way to l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0" y="9907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ea of land nearly surrounded by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0" y="10666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ar between Athens and Spa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ind of government that is run by a small group of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eltered place along the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greece-athens.com/gallery_images/56.jpg"/>
          <p:cNvPicPr/>
          <p:nvPr/>
        </p:nvPicPr>
        <p:blipFill>
          <a:blip r:embed="rId1"/>
          <a:srcRect l="0" t="0" r="0" b="23196"/>
          <a:stretch/>
        </p:blipFill>
        <p:spPr>
          <a:xfrm>
            <a:off x="0" y="2112840"/>
            <a:ext cx="91440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t1.gstatic.com/images?q=tbn:ANd9GcTXHcylMCaeHAK-5bgu-kSTyFuixZqNnH79g2w64_GMDLd3QJBN"/>
          <p:cNvPicPr/>
          <p:nvPr/>
        </p:nvPicPr>
        <p:blipFill>
          <a:blip r:embed="rId1"/>
          <a:stretch/>
        </p:blipFill>
        <p:spPr>
          <a:xfrm>
            <a:off x="304920" y="1758960"/>
            <a:ext cx="815328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://t3.gstatic.com/images?q=tbn:ANd9GcS2fa_NqSEi6ZGC4Nr6yPImHN4JwK2ZA1I3ZnYj3tOXe_j3zOF29w"/>
          <p:cNvPicPr/>
          <p:nvPr/>
        </p:nvPicPr>
        <p:blipFill>
          <a:blip r:embed="rId1"/>
          <a:stretch/>
        </p:blipFill>
        <p:spPr>
          <a:xfrm>
            <a:off x="914400" y="2666880"/>
            <a:ext cx="6858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ttp://t2.gstatic.com/images?q=tbn:ANd9GcTAmLk55eRp7JEp0ZO6ONJ0PMp4dSlZWWwA0Ug2Ycane3YQZhcIMQ"/>
          <p:cNvPicPr/>
          <p:nvPr/>
        </p:nvPicPr>
        <p:blipFill>
          <a:blip r:embed="rId1"/>
          <a:stretch/>
        </p:blipFill>
        <p:spPr>
          <a:xfrm>
            <a:off x="304920" y="2219400"/>
            <a:ext cx="754380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http://t3.gstatic.com/images?q=tbn:ANd9GcRDhuQr2p1wirNFaBIkSYLLJhodcZGIrDXytLwpjK1f2MClNmlj"/>
          <p:cNvPicPr/>
          <p:nvPr/>
        </p:nvPicPr>
        <p:blipFill>
          <a:blip r:embed="rId1"/>
          <a:stretch/>
        </p:blipFill>
        <p:spPr>
          <a:xfrm>
            <a:off x="380880" y="2243160"/>
            <a:ext cx="76964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m of government where people vote to make decis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t1.gstatic.com/images?q=tbn:ANd9GcSCuFdSSnVmqoaXUzU4ElIlNAdpyD53BPg6x3c6tboJNvOesBNTXA"/>
          <p:cNvPicPr/>
          <p:nvPr/>
        </p:nvPicPr>
        <p:blipFill>
          <a:blip r:embed="rId1"/>
          <a:stretch/>
        </p:blipFill>
        <p:spPr>
          <a:xfrm>
            <a:off x="304920" y="2438280"/>
            <a:ext cx="739116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ear evidence and make decision in a court of la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ttp://t1.gstatic.com/images?q=tbn:ANd9GcSiDUMiv5cHQcLINxLShuhoGdbudQBUmXgr1aSN8dW_pBjtMOWe"/>
          <p:cNvPicPr/>
          <p:nvPr/>
        </p:nvPicPr>
        <p:blipFill>
          <a:blip r:embed="rId1"/>
          <a:stretch/>
        </p:blipFill>
        <p:spPr>
          <a:xfrm>
            <a:off x="228600" y="1606680"/>
            <a:ext cx="792468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headed by one rul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ttp://t0.gstatic.com/images?q=tbn:ANd9GcRuqqEst1uH5YnoNdu62rFcXGp-OzxSEGelZNn9J_DwmmDMuPdu"/>
          <p:cNvPicPr/>
          <p:nvPr/>
        </p:nvPicPr>
        <p:blipFill>
          <a:blip r:embed="rId1"/>
          <a:stretch/>
        </p:blipFill>
        <p:spPr>
          <a:xfrm>
            <a:off x="609480" y="1757520"/>
            <a:ext cx="716292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9T16:55:10Z</dcterms:modified>
  <cp:revision>94</cp:revision>
  <dc:subject/>
  <dc:title>Ancient Greece</dc:title>
</cp:coreProperties>
</file>